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465-0741-4926-B257-B165CBFE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1A7-9247-4D57-BEC6-6835560B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462-24F0-46CC-A287-097290F8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FD2-95AF-4B7E-8313-7DE7E3B6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78A-EE4C-4579-AC6D-49C261D5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188-B494-4470-B999-F198C117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A77-1FA0-4649-8F3C-98865207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252-EF14-4FAE-BDD9-9F2C6F14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8F1-DFE0-4C7D-9AAB-72DAF438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E562-0F47-4216-98EC-8BFBB52E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489-4529-46BE-822D-97CF58C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A87-9637-4413-A045-39AE073E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FB96-8CE7-46F2-A1AF-6BA02CA118CB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50F9-6415-4338-8477-DE1C97E57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F Project B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 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F Architecture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A19-FA8A-473F-8669-6B82DD5D12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BI (CPU Resource Manage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itori Sugaya (Waseda Univers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340-B000-4B88-A4A9-6798EF46ED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boree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atoru U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report of presentations and projects from recent CELF regional jamborees in Jap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JapanTechnicalJamboreeGu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TechnicalJamboree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panTechnicalJamboree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124-8114-4E5F-871D-38C2569E3C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CELF members' project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SS projects are CELF members working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ProjectList [Unfortunately, out of date at the momen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how to connect these projects back to original OSS projec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486-17B3-402B-A081-7E583994D7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ual CELF “Challenge”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 for creating a list of technology projects for CELF members to focus on for th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CELF push the projects forward and get inter-company collab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make sure to follow Open Source practices, so that non-members can participate and influence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make sure people understand it’s not an unfunded request for work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E3B-BF42-4C88-A444-0C1AF25B5D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jects deserve focused CELF attention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nyone need hardware that CELF or it's members can provi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we do a "hackfest"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5C8-5B26-491B-9572-6801F4A9D5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ie CELF Initiatives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F Test Lab demons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 Weight Siz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BI (CPU Resource Manag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boree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ELF members' project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CELF "Challenge"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16A-5833-44A2-81C0-591A88063A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ie CELF Initiative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nitiatives and projects that CELF is directly managing and fu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-tiny mainlining, and bloatwatch (via Selenic Consulting - Matt Mack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API/DirectFB integration (via Dennis Kro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F Open Test Lab (via Nomad Global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Linux Co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6E4-455E-4A23-A129-FBC9D70DC0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F Test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resource for CELF members and wid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ed multi-platform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htly regression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test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board usage via remote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E0F-1674-4337-9F54-3656DBE0D9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F Test Lab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an architecture for host-target style testing (not found in other test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ab infrastructure is now s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s OpenEmbedded distribution from scr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can be scheduled and run remotely on multiple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TP is currently the only “real”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very few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D9C-5AB8-4E6D-9F7A-67E9B26E92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0"/>
            <a:ext cx="2210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624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886040" y="276120"/>
            <a:ext cx="5371920" cy="630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36B-8903-4EAE-9020-597D9F3011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Lab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 of running a test in the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ing a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ing te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h and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99A-D56B-4FD1-B693-5636B09DDD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tion system for interactiv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populate tests specific to CELF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more systems - Satellite nodes and the Japan test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install program and documentation to facilitate use of lab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with or leveraging of other Linux automated test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373-592C-46C1-B9A6-31457AB565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 Weight Siz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unehiro Ikeda (N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keda will describe overview of his examination to make clear config weights(impacts), which means size and memory usage increase by enabling a config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ation tool named "Kconfig Size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examination resul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 works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CF1-7F09-42AF-A80C-93ECF17191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Thomas U. Swidler</dc:creator>
  <dc:description/>
  <dc:language>en-US</dc:language>
  <cp:lastModifiedBy>Tim Bird</cp:lastModifiedBy>
  <dcterms:modified xsi:type="dcterms:W3CDTF">2006-07-21T23:00:04Z</dcterms:modified>
  <cp:revision>12</cp:revision>
  <dc:subject/>
  <dc:title>PowerPoint Presentation</dc:title>
</cp:coreProperties>
</file>